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47D-02F1-4A7B-99BE-5766194D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88E-4BEA-4B70-A701-99B7E022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E9E-0890-4F6A-BC25-5EC0425F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6CC-9A70-4FDE-BCF1-99DFAE28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F3F-489F-499B-8E91-501A1DCC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73C-DDF9-4E43-9A52-19DADB1B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733-DADC-488F-B8AC-06FD3811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11F-1D50-4EC0-ABE3-2677D26C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43B-A6EB-4D21-B0FB-C0DE4F6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8E1-8C33-403A-8C28-C6CB9093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609-5E5C-4236-A054-BB043A1D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884-807C-47F5-A5FB-54B98900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F6A1-8B50-4115-B7FE-7B1ACD9DF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42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A box at rest on a leve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47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50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55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 A helicopter accelerating up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252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897200" y="1001880"/>
            <a:ext cx="5389560" cy="429084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5154480" y="3586320"/>
            <a:ext cx="1436760" cy="1747080"/>
            <a:chOff x="5154480" y="3586320"/>
            <a:chExt cx="1436760" cy="1747080"/>
          </a:xfrm>
        </p:grpSpPr>
        <p:sp>
          <p:nvSpPr>
            <p:cNvPr id="256" name=""/>
            <p:cNvSpPr/>
            <p:nvPr/>
          </p:nvSpPr>
          <p:spPr>
            <a:xfrm>
              <a:off x="5565960" y="358632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4480" y="48736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94240" y="279360"/>
            <a:ext cx="1436760" cy="2522160"/>
            <a:chOff x="5394240" y="279360"/>
            <a:chExt cx="1436760" cy="2522160"/>
          </a:xfrm>
        </p:grpSpPr>
        <p:sp>
          <p:nvSpPr>
            <p:cNvPr id="259" name=""/>
            <p:cNvSpPr/>
            <p:nvPr/>
          </p:nvSpPr>
          <p:spPr>
            <a:xfrm flipV="1">
              <a:off x="5543640" y="689760"/>
              <a:ext cx="392040" cy="2111400"/>
            </a:xfrm>
            <a:prstGeom prst="downArrow">
              <a:avLst>
                <a:gd name="adj1" fmla="val 50000"/>
                <a:gd name="adj2" fmla="val 1346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94240" y="27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A helicopter accelerating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089240" y="3940200"/>
            <a:ext cx="1436760" cy="1747080"/>
            <a:chOff x="4089240" y="3940200"/>
            <a:chExt cx="1436760" cy="1747080"/>
          </a:xfrm>
        </p:grpSpPr>
        <p:sp>
          <p:nvSpPr>
            <p:cNvPr id="265" name=""/>
            <p:cNvSpPr/>
            <p:nvPr/>
          </p:nvSpPr>
          <p:spPr>
            <a:xfrm>
              <a:off x="4500720" y="39402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89240" y="52275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679920" y="2509920"/>
            <a:ext cx="18288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4292640" y="1414440"/>
            <a:ext cx="1436760" cy="1196640"/>
            <a:chOff x="4292640" y="1414440"/>
            <a:chExt cx="1436760" cy="1196640"/>
          </a:xfrm>
        </p:grpSpPr>
        <p:sp>
          <p:nvSpPr>
            <p:cNvPr id="269" name=""/>
            <p:cNvSpPr/>
            <p:nvPr/>
          </p:nvSpPr>
          <p:spPr>
            <a:xfrm flipV="1">
              <a:off x="4479840" y="1902600"/>
              <a:ext cx="409680" cy="708120"/>
            </a:xfrm>
            <a:prstGeom prst="downArrow">
              <a:avLst>
                <a:gd name="adj1" fmla="val 50000"/>
                <a:gd name="adj2" fmla="val 4321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92640" y="14144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272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 An airplane in level flight moving forward at 400 km/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278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517840" y="1781280"/>
            <a:ext cx="4114800" cy="3292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4221000" y="4091040"/>
            <a:ext cx="1436760" cy="1747080"/>
            <a:chOff x="4221000" y="4091040"/>
            <a:chExt cx="1436760" cy="1747080"/>
          </a:xfrm>
        </p:grpSpPr>
        <p:sp>
          <p:nvSpPr>
            <p:cNvPr id="282" name=""/>
            <p:cNvSpPr/>
            <p:nvPr/>
          </p:nvSpPr>
          <p:spPr>
            <a:xfrm>
              <a:off x="4632480" y="40910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21000" y="5378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425840" y="1419120"/>
            <a:ext cx="1436760" cy="1830600"/>
            <a:chOff x="4425840" y="1419120"/>
            <a:chExt cx="1436760" cy="1830600"/>
          </a:xfrm>
        </p:grpSpPr>
        <p:sp>
          <p:nvSpPr>
            <p:cNvPr id="285" name=""/>
            <p:cNvSpPr/>
            <p:nvPr/>
          </p:nvSpPr>
          <p:spPr>
            <a:xfrm flipV="1">
              <a:off x="4592520" y="1979640"/>
              <a:ext cx="392400" cy="1270080"/>
            </a:xfrm>
            <a:prstGeom prst="downArrow">
              <a:avLst>
                <a:gd name="adj1" fmla="val 50000"/>
                <a:gd name="adj2" fmla="val 8091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25840" y="141912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424560" y="3605040"/>
            <a:ext cx="2719440" cy="459720"/>
            <a:chOff x="6424560" y="3605040"/>
            <a:chExt cx="2719440" cy="459720"/>
          </a:xfrm>
        </p:grpSpPr>
        <p:sp>
          <p:nvSpPr>
            <p:cNvPr id="288" name=""/>
            <p:cNvSpPr/>
            <p:nvPr/>
          </p:nvSpPr>
          <p:spPr>
            <a:xfrm>
              <a:off x="6424560" y="3699000"/>
              <a:ext cx="1717560" cy="317520"/>
            </a:xfrm>
            <a:prstGeom prst="rightArrow">
              <a:avLst>
                <a:gd name="adj1" fmla="val 50000"/>
                <a:gd name="adj2" fmla="val 13523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11960" y="3605040"/>
              <a:ext cx="9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3920" y="3341520"/>
            <a:ext cx="2840040" cy="459720"/>
            <a:chOff x="223920" y="3341520"/>
            <a:chExt cx="2840040" cy="459720"/>
          </a:xfrm>
        </p:grpSpPr>
        <p:sp>
          <p:nvSpPr>
            <p:cNvPr id="291" name=""/>
            <p:cNvSpPr/>
            <p:nvPr/>
          </p:nvSpPr>
          <p:spPr>
            <a:xfrm flipH="1">
              <a:off x="1346040" y="3473280"/>
              <a:ext cx="1717920" cy="317520"/>
            </a:xfrm>
            <a:prstGeom prst="rightArrow">
              <a:avLst>
                <a:gd name="adj1" fmla="val 50000"/>
                <a:gd name="adj2" fmla="val 135261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920" y="3341520"/>
              <a:ext cx="119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r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 An airplane in level flight and speed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19291" t="19291" r="0" b="0"/>
          <a:stretch/>
        </p:blipFill>
        <p:spPr>
          <a:xfrm>
            <a:off x="2936880" y="2173320"/>
            <a:ext cx="33210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4259160" y="3959280"/>
            <a:ext cx="1436760" cy="1728000"/>
            <a:chOff x="4259160" y="3959280"/>
            <a:chExt cx="1436760" cy="1728000"/>
          </a:xfrm>
        </p:grpSpPr>
        <p:sp>
          <p:nvSpPr>
            <p:cNvPr id="298" name=""/>
            <p:cNvSpPr/>
            <p:nvPr/>
          </p:nvSpPr>
          <p:spPr>
            <a:xfrm>
              <a:off x="4651200" y="3959280"/>
              <a:ext cx="392400" cy="1270080"/>
            </a:xfrm>
            <a:prstGeom prst="downArrow">
              <a:avLst>
                <a:gd name="adj1" fmla="val 50000"/>
                <a:gd name="adj2" fmla="val 8091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59160" y="52275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465800" y="1380960"/>
            <a:ext cx="1436400" cy="1702080"/>
            <a:chOff x="4465800" y="1380960"/>
            <a:chExt cx="1436400" cy="1702080"/>
          </a:xfrm>
        </p:grpSpPr>
        <p:sp>
          <p:nvSpPr>
            <p:cNvPr id="301" name=""/>
            <p:cNvSpPr/>
            <p:nvPr/>
          </p:nvSpPr>
          <p:spPr>
            <a:xfrm flipV="1">
              <a:off x="4592520" y="1812960"/>
              <a:ext cx="392400" cy="1270080"/>
            </a:xfrm>
            <a:prstGeom prst="downArrow">
              <a:avLst>
                <a:gd name="adj1" fmla="val 50000"/>
                <a:gd name="adj2" fmla="val 8091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65800" y="13809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751360" y="3100320"/>
            <a:ext cx="3078360" cy="924840"/>
            <a:chOff x="5751360" y="3100320"/>
            <a:chExt cx="3078360" cy="924840"/>
          </a:xfrm>
        </p:grpSpPr>
        <p:sp>
          <p:nvSpPr>
            <p:cNvPr id="304" name=""/>
            <p:cNvSpPr/>
            <p:nvPr/>
          </p:nvSpPr>
          <p:spPr>
            <a:xfrm>
              <a:off x="7635960" y="3565440"/>
              <a:ext cx="119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r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51360" y="3100320"/>
              <a:ext cx="2745000" cy="336600"/>
            </a:xfrm>
            <a:prstGeom prst="rightArrow">
              <a:avLst>
                <a:gd name="adj1" fmla="val 50000"/>
                <a:gd name="adj2" fmla="val 20387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357200" y="3586320"/>
            <a:ext cx="2527560" cy="459720"/>
            <a:chOff x="1357200" y="3586320"/>
            <a:chExt cx="2527560" cy="459720"/>
          </a:xfrm>
        </p:grpSpPr>
        <p:sp>
          <p:nvSpPr>
            <p:cNvPr id="307" name=""/>
            <p:cNvSpPr/>
            <p:nvPr/>
          </p:nvSpPr>
          <p:spPr>
            <a:xfrm flipH="1">
              <a:off x="2166840" y="3641760"/>
              <a:ext cx="1717920" cy="317520"/>
            </a:xfrm>
            <a:prstGeom prst="rightArrow">
              <a:avLst>
                <a:gd name="adj1" fmla="val 50000"/>
                <a:gd name="adj2" fmla="val 135261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57200" y="3586320"/>
              <a:ext cx="9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310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 An airplane climbing at a constant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26780" t="0" r="0" b="0"/>
          <a:stretch/>
        </p:blipFill>
        <p:spPr>
          <a:xfrm>
            <a:off x="3170160" y="2122560"/>
            <a:ext cx="3013200" cy="32925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481640" y="4545000"/>
            <a:ext cx="1828800" cy="1335960"/>
            <a:chOff x="4481640" y="4545000"/>
            <a:chExt cx="1828800" cy="1335960"/>
          </a:xfrm>
        </p:grpSpPr>
        <p:sp>
          <p:nvSpPr>
            <p:cNvPr id="317" name=""/>
            <p:cNvSpPr/>
            <p:nvPr/>
          </p:nvSpPr>
          <p:spPr>
            <a:xfrm>
              <a:off x="4481640" y="4545000"/>
              <a:ext cx="392040" cy="1269720"/>
            </a:xfrm>
            <a:prstGeom prst="downArrow">
              <a:avLst>
                <a:gd name="adj1" fmla="val 50000"/>
                <a:gd name="adj2" fmla="val 80969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3680" y="54212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386240" y="1082520"/>
            <a:ext cx="1849320" cy="1727280"/>
            <a:chOff x="4386240" y="1082520"/>
            <a:chExt cx="1849320" cy="1727280"/>
          </a:xfrm>
        </p:grpSpPr>
        <p:sp>
          <p:nvSpPr>
            <p:cNvPr id="320" name=""/>
            <p:cNvSpPr/>
            <p:nvPr/>
          </p:nvSpPr>
          <p:spPr>
            <a:xfrm flipV="1">
              <a:off x="4386240" y="1082520"/>
              <a:ext cx="392040" cy="1727280"/>
            </a:xfrm>
            <a:prstGeom prst="downArrow">
              <a:avLst>
                <a:gd name="adj1" fmla="val 50000"/>
                <a:gd name="adj2" fmla="val 11014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99160" y="138564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r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323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514760" y="5848200"/>
            <a:ext cx="2200320" cy="567720"/>
            <a:chOff x="4514760" y="5848200"/>
            <a:chExt cx="2200320" cy="567720"/>
          </a:xfrm>
        </p:grpSpPr>
        <p:sp>
          <p:nvSpPr>
            <p:cNvPr id="326" name=""/>
            <p:cNvSpPr/>
            <p:nvPr/>
          </p:nvSpPr>
          <p:spPr>
            <a:xfrm>
              <a:off x="4514760" y="5848200"/>
              <a:ext cx="419040" cy="438120"/>
            </a:xfrm>
            <a:prstGeom prst="downArrow">
              <a:avLst>
                <a:gd name="adj1" fmla="val 50000"/>
                <a:gd name="adj2" fmla="val 261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62600" y="59562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ir 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A large box being pushed against a vertical 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84520" y="1325520"/>
            <a:ext cx="4425840" cy="4071960"/>
          </a:xfrm>
          <a:custGeom>
            <a:avLst/>
            <a:gdLst/>
            <a:ahLst/>
            <a:rect l="l" t="t" r="r" b="b"/>
            <a:pathLst>
              <a:path w="2788" h="2565">
                <a:moveTo>
                  <a:pt x="670" y="0"/>
                </a:moveTo>
                <a:lnTo>
                  <a:pt x="353" y="11"/>
                </a:lnTo>
                <a:lnTo>
                  <a:pt x="164" y="188"/>
                </a:lnTo>
                <a:lnTo>
                  <a:pt x="258" y="447"/>
                </a:lnTo>
                <a:lnTo>
                  <a:pt x="58" y="623"/>
                </a:lnTo>
                <a:lnTo>
                  <a:pt x="305" y="776"/>
                </a:lnTo>
                <a:lnTo>
                  <a:pt x="164" y="1117"/>
                </a:lnTo>
                <a:lnTo>
                  <a:pt x="423" y="1200"/>
                </a:lnTo>
                <a:lnTo>
                  <a:pt x="0" y="1482"/>
                </a:lnTo>
                <a:lnTo>
                  <a:pt x="270" y="1765"/>
                </a:lnTo>
                <a:lnTo>
                  <a:pt x="258" y="2153"/>
                </a:lnTo>
                <a:lnTo>
                  <a:pt x="70" y="2353"/>
                </a:lnTo>
                <a:lnTo>
                  <a:pt x="482" y="2565"/>
                </a:lnTo>
                <a:lnTo>
                  <a:pt x="800" y="2423"/>
                </a:lnTo>
                <a:lnTo>
                  <a:pt x="1270" y="2565"/>
                </a:lnTo>
                <a:lnTo>
                  <a:pt x="1458" y="2329"/>
                </a:lnTo>
                <a:lnTo>
                  <a:pt x="1764" y="2529"/>
                </a:lnTo>
                <a:lnTo>
                  <a:pt x="2258" y="2282"/>
                </a:lnTo>
                <a:lnTo>
                  <a:pt x="2564" y="2506"/>
                </a:lnTo>
                <a:lnTo>
                  <a:pt x="2788" y="2270"/>
                </a:lnTo>
                <a:lnTo>
                  <a:pt x="2693" y="1917"/>
                </a:lnTo>
                <a:lnTo>
                  <a:pt x="670" y="1917"/>
                </a:lnTo>
                <a:lnTo>
                  <a:pt x="67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23720" y="2706840"/>
            <a:ext cx="4707000" cy="1644480"/>
            <a:chOff x="423720" y="2706840"/>
            <a:chExt cx="4707000" cy="1644480"/>
          </a:xfrm>
        </p:grpSpPr>
        <p:grpSp>
          <p:nvGrpSpPr>
            <p:cNvPr id="333" name=""/>
            <p:cNvGrpSpPr/>
            <p:nvPr/>
          </p:nvGrpSpPr>
          <p:grpSpPr>
            <a:xfrm>
              <a:off x="2887200" y="2706840"/>
              <a:ext cx="2243520" cy="1644480"/>
              <a:chOff x="2887200" y="2706840"/>
              <a:chExt cx="2243520" cy="1644480"/>
            </a:xfrm>
          </p:grpSpPr>
          <p:sp>
            <p:nvSpPr>
              <p:cNvPr id="334" name=""/>
              <p:cNvSpPr/>
              <p:nvPr/>
            </p:nvSpPr>
            <p:spPr>
              <a:xfrm>
                <a:off x="3767040" y="2706840"/>
                <a:ext cx="1363680" cy="1644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886840" y="3416400"/>
                <a:ext cx="1474920" cy="411120"/>
              </a:xfrm>
              <a:prstGeom prst="rightArrow">
                <a:avLst>
                  <a:gd name="adj1" fmla="val 50000"/>
                  <a:gd name="adj2" fmla="val 8968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423720" y="3193920"/>
              <a:ext cx="317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x PUSHED up against w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49680" y="3362400"/>
            <a:ext cx="4594320" cy="825480"/>
            <a:chOff x="4549680" y="3362400"/>
            <a:chExt cx="4594320" cy="825480"/>
          </a:xfrm>
        </p:grpSpPr>
        <p:sp>
          <p:nvSpPr>
            <p:cNvPr id="338" name=""/>
            <p:cNvSpPr/>
            <p:nvPr/>
          </p:nvSpPr>
          <p:spPr>
            <a:xfrm>
              <a:off x="4549680" y="3416400"/>
              <a:ext cx="1474920" cy="411120"/>
            </a:xfrm>
            <a:prstGeom prst="rightArrow">
              <a:avLst>
                <a:gd name="adj1" fmla="val 50000"/>
                <a:gd name="adj2" fmla="val 8968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8120" y="3362400"/>
              <a:ext cx="285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ll PUSHING back on b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935520" y="3790800"/>
            <a:ext cx="1231920" cy="2441160"/>
            <a:chOff x="3935520" y="3790800"/>
            <a:chExt cx="1231920" cy="2441160"/>
          </a:xfrm>
        </p:grpSpPr>
        <p:sp>
          <p:nvSpPr>
            <p:cNvPr id="341" name=""/>
            <p:cNvSpPr/>
            <p:nvPr/>
          </p:nvSpPr>
          <p:spPr>
            <a:xfrm flipV="1">
              <a:off x="4291200" y="3790800"/>
              <a:ext cx="335160" cy="2052720"/>
            </a:xfrm>
            <a:prstGeom prst="upArrow">
              <a:avLst>
                <a:gd name="adj1" fmla="val 50000"/>
                <a:gd name="adj2" fmla="val 15311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35520" y="577224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272120" y="1233360"/>
            <a:ext cx="1659960" cy="2125800"/>
            <a:chOff x="4272120" y="1233360"/>
            <a:chExt cx="1659960" cy="2125800"/>
          </a:xfrm>
        </p:grpSpPr>
        <p:sp>
          <p:nvSpPr>
            <p:cNvPr id="344" name=""/>
            <p:cNvSpPr/>
            <p:nvPr/>
          </p:nvSpPr>
          <p:spPr>
            <a:xfrm>
              <a:off x="4272120" y="1306440"/>
              <a:ext cx="334800" cy="2052720"/>
            </a:xfrm>
            <a:prstGeom prst="upArrow">
              <a:avLst>
                <a:gd name="adj1" fmla="val 50000"/>
                <a:gd name="adj2" fmla="val 15328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00520" y="1233360"/>
              <a:ext cx="12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347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559480" y="44845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3040" y="20750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 A person standing in an elevator that is not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355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624120" y="2684520"/>
              <a:ext cx="15624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366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828960" y="4856040"/>
            <a:ext cx="1436760" cy="1747080"/>
            <a:chOff x="3828960" y="4856040"/>
            <a:chExt cx="1436760" cy="1747080"/>
          </a:xfrm>
        </p:grpSpPr>
        <p:sp>
          <p:nvSpPr>
            <p:cNvPr id="369" name=""/>
            <p:cNvSpPr/>
            <p:nvPr/>
          </p:nvSpPr>
          <p:spPr>
            <a:xfrm>
              <a:off x="4240440" y="48560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28960" y="6143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241880" y="1287360"/>
            <a:ext cx="3297240" cy="1346400"/>
            <a:chOff x="4241880" y="1287360"/>
            <a:chExt cx="3297240" cy="1346400"/>
          </a:xfrm>
        </p:grpSpPr>
        <p:sp>
          <p:nvSpPr>
            <p:cNvPr id="372" name=""/>
            <p:cNvSpPr/>
            <p:nvPr/>
          </p:nvSpPr>
          <p:spPr>
            <a:xfrm flipV="1">
              <a:off x="4241880" y="136368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07000" y="128736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 A person moving upward in an elevator at a constant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378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3624120" y="2684520"/>
              <a:ext cx="15624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389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790800" y="4856040"/>
            <a:ext cx="1436760" cy="1747080"/>
            <a:chOff x="3790800" y="4856040"/>
            <a:chExt cx="1436760" cy="1747080"/>
          </a:xfrm>
        </p:grpSpPr>
        <p:sp>
          <p:nvSpPr>
            <p:cNvPr id="392" name=""/>
            <p:cNvSpPr/>
            <p:nvPr/>
          </p:nvSpPr>
          <p:spPr>
            <a:xfrm>
              <a:off x="4202280" y="48560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0800" y="6143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222800" y="1287360"/>
            <a:ext cx="3297240" cy="1346400"/>
            <a:chOff x="4222800" y="1287360"/>
            <a:chExt cx="3297240" cy="1346400"/>
          </a:xfrm>
        </p:grpSpPr>
        <p:sp>
          <p:nvSpPr>
            <p:cNvPr id="395" name=""/>
            <p:cNvSpPr/>
            <p:nvPr/>
          </p:nvSpPr>
          <p:spPr>
            <a:xfrm flipV="1">
              <a:off x="4222800" y="136368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7920" y="128736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 A person accelerating upward in an elev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401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3624120" y="3170160"/>
              <a:ext cx="156240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412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09880" y="4875120"/>
            <a:ext cx="1436760" cy="1747080"/>
            <a:chOff x="3809880" y="4875120"/>
            <a:chExt cx="1436760" cy="1747080"/>
          </a:xfrm>
        </p:grpSpPr>
        <p:sp>
          <p:nvSpPr>
            <p:cNvPr id="415" name=""/>
            <p:cNvSpPr/>
            <p:nvPr/>
          </p:nvSpPr>
          <p:spPr>
            <a:xfrm>
              <a:off x="4221360" y="487512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9880" y="61624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240080" y="1120680"/>
            <a:ext cx="3189600" cy="1998720"/>
            <a:chOff x="4240080" y="1120680"/>
            <a:chExt cx="3189600" cy="1998720"/>
          </a:xfrm>
        </p:grpSpPr>
        <p:sp>
          <p:nvSpPr>
            <p:cNvPr id="418" name=""/>
            <p:cNvSpPr/>
            <p:nvPr/>
          </p:nvSpPr>
          <p:spPr>
            <a:xfrm flipV="1">
              <a:off x="4240080" y="1120680"/>
              <a:ext cx="373320" cy="1998720"/>
            </a:xfrm>
            <a:prstGeom prst="downArrow">
              <a:avLst>
                <a:gd name="adj1" fmla="val 50000"/>
                <a:gd name="adj2" fmla="val 13384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97560" y="113832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 A person moving downward in an elevator at a constant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424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1"/>
            <a:stretch/>
          </p:blipFill>
          <p:spPr>
            <a:xfrm>
              <a:off x="3624120" y="2684520"/>
              <a:ext cx="15624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435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773520" y="4856040"/>
            <a:ext cx="1436760" cy="1747080"/>
            <a:chOff x="3773520" y="4856040"/>
            <a:chExt cx="1436760" cy="1747080"/>
          </a:xfrm>
        </p:grpSpPr>
        <p:sp>
          <p:nvSpPr>
            <p:cNvPr id="438" name=""/>
            <p:cNvSpPr/>
            <p:nvPr/>
          </p:nvSpPr>
          <p:spPr>
            <a:xfrm>
              <a:off x="4185000" y="48560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73520" y="6143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316400" y="1287360"/>
            <a:ext cx="3297240" cy="1346400"/>
            <a:chOff x="4316400" y="1287360"/>
            <a:chExt cx="3297240" cy="1346400"/>
          </a:xfrm>
        </p:grpSpPr>
        <p:sp>
          <p:nvSpPr>
            <p:cNvPr id="441" name=""/>
            <p:cNvSpPr/>
            <p:nvPr/>
          </p:nvSpPr>
          <p:spPr>
            <a:xfrm flipV="1">
              <a:off x="4316400" y="136368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1520" y="128736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58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 box being dragged to the right at a constant speed on a level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63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66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56160" y="3473280"/>
            <a:ext cx="1792080" cy="459720"/>
            <a:chOff x="4556160" y="3473280"/>
            <a:chExt cx="1792080" cy="459720"/>
          </a:xfrm>
        </p:grpSpPr>
        <p:sp>
          <p:nvSpPr>
            <p:cNvPr id="71" name=""/>
            <p:cNvSpPr/>
            <p:nvPr/>
          </p:nvSpPr>
          <p:spPr>
            <a:xfrm>
              <a:off x="4556160" y="3510000"/>
              <a:ext cx="896760" cy="392040"/>
            </a:xfrm>
            <a:prstGeom prst="rightArrow">
              <a:avLst>
                <a:gd name="adj1" fmla="val 50000"/>
                <a:gd name="adj2" fmla="val 5718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08720" y="347328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406600" y="3435480"/>
            <a:ext cx="1738440" cy="466560"/>
            <a:chOff x="2406600" y="3435480"/>
            <a:chExt cx="1738440" cy="466560"/>
          </a:xfrm>
        </p:grpSpPr>
        <p:sp>
          <p:nvSpPr>
            <p:cNvPr id="74" name=""/>
            <p:cNvSpPr/>
            <p:nvPr/>
          </p:nvSpPr>
          <p:spPr>
            <a:xfrm flipH="1">
              <a:off x="3247920" y="3510000"/>
              <a:ext cx="897120" cy="392040"/>
            </a:xfrm>
            <a:prstGeom prst="rightArrow">
              <a:avLst>
                <a:gd name="adj1" fmla="val 50000"/>
                <a:gd name="adj2" fmla="val 5720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6600" y="343548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77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 A person moving upward in an elevator that is slowing down to a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447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192480" y="2017800"/>
            <a:ext cx="2185920" cy="3006720"/>
            <a:chOff x="3192480" y="2017800"/>
            <a:chExt cx="2185920" cy="3006720"/>
          </a:xfrm>
        </p:grpSpPr>
        <p:sp>
          <p:nvSpPr>
            <p:cNvPr id="450" name=""/>
            <p:cNvSpPr/>
            <p:nvPr/>
          </p:nvSpPr>
          <p:spPr>
            <a:xfrm>
              <a:off x="3193920" y="2017800"/>
              <a:ext cx="2167200" cy="300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192480" y="4687920"/>
              <a:ext cx="5238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697200" y="233532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92480" y="2017800"/>
              <a:ext cx="5047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97200" y="23353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97200" y="4687920"/>
              <a:ext cx="143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5116680" y="4687560"/>
              <a:ext cx="2426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154480" y="2017800"/>
              <a:ext cx="223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53040" y="2333520"/>
              <a:ext cx="144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3624120" y="2255760"/>
              <a:ext cx="1506600" cy="27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"/>
          <p:cNvGrpSpPr/>
          <p:nvPr/>
        </p:nvGrpSpPr>
        <p:grpSpPr>
          <a:xfrm>
            <a:off x="4184640" y="1400040"/>
            <a:ext cx="3281400" cy="766440"/>
            <a:chOff x="4184640" y="1400040"/>
            <a:chExt cx="3281400" cy="766440"/>
          </a:xfrm>
        </p:grpSpPr>
        <p:sp>
          <p:nvSpPr>
            <p:cNvPr id="461" name=""/>
            <p:cNvSpPr/>
            <p:nvPr/>
          </p:nvSpPr>
          <p:spPr>
            <a:xfrm flipV="1">
              <a:off x="4184640" y="1493280"/>
              <a:ext cx="392040" cy="672840"/>
            </a:xfrm>
            <a:prstGeom prst="downArrow">
              <a:avLst>
                <a:gd name="adj1" fmla="val 50000"/>
                <a:gd name="adj2" fmla="val 4290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33920" y="1400040"/>
              <a:ext cx="28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oor pushing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716280" y="4875120"/>
            <a:ext cx="1436760" cy="1747080"/>
            <a:chOff x="3716280" y="4875120"/>
            <a:chExt cx="1436760" cy="1747080"/>
          </a:xfrm>
        </p:grpSpPr>
        <p:sp>
          <p:nvSpPr>
            <p:cNvPr id="464" name=""/>
            <p:cNvSpPr/>
            <p:nvPr/>
          </p:nvSpPr>
          <p:spPr>
            <a:xfrm>
              <a:off x="4127760" y="487512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6280" y="61624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469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 A satellite that is orbiting the earth at a constant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216160" y="1657440"/>
            <a:ext cx="4718160" cy="3538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278240" y="3697200"/>
            <a:ext cx="392040" cy="1270080"/>
          </a:xfrm>
          <a:prstGeom prst="downArrow">
            <a:avLst>
              <a:gd name="adj1" fmla="val 50000"/>
              <a:gd name="adj2" fmla="val 8099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22560" y="517032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80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 crate accelerated to the right on a level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85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88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56160" y="3473280"/>
            <a:ext cx="3322440" cy="459720"/>
            <a:chOff x="4556160" y="3473280"/>
            <a:chExt cx="3322440" cy="459720"/>
          </a:xfrm>
        </p:grpSpPr>
        <p:sp>
          <p:nvSpPr>
            <p:cNvPr id="93" name=""/>
            <p:cNvSpPr/>
            <p:nvPr/>
          </p:nvSpPr>
          <p:spPr>
            <a:xfrm>
              <a:off x="4556160" y="3510000"/>
              <a:ext cx="2465280" cy="411120"/>
            </a:xfrm>
            <a:prstGeom prst="rightArrow">
              <a:avLst>
                <a:gd name="adj1" fmla="val 50000"/>
                <a:gd name="adj2" fmla="val 14991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39080" y="347328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06600" y="3435480"/>
            <a:ext cx="1738440" cy="466560"/>
            <a:chOff x="2406600" y="3435480"/>
            <a:chExt cx="1738440" cy="466560"/>
          </a:xfrm>
        </p:grpSpPr>
        <p:sp>
          <p:nvSpPr>
            <p:cNvPr id="96" name=""/>
            <p:cNvSpPr/>
            <p:nvPr/>
          </p:nvSpPr>
          <p:spPr>
            <a:xfrm flipH="1">
              <a:off x="3247920" y="3510000"/>
              <a:ext cx="897120" cy="392040"/>
            </a:xfrm>
            <a:prstGeom prst="rightArrow">
              <a:avLst>
                <a:gd name="adj1" fmla="val 50000"/>
                <a:gd name="adj2" fmla="val 5720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06600" y="343548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99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102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A box moving to the right on a level surface and sliding to a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107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110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56160" y="3473280"/>
            <a:ext cx="1792080" cy="459720"/>
            <a:chOff x="4556160" y="3473280"/>
            <a:chExt cx="1792080" cy="459720"/>
          </a:xfrm>
        </p:grpSpPr>
        <p:sp>
          <p:nvSpPr>
            <p:cNvPr id="115" name=""/>
            <p:cNvSpPr/>
            <p:nvPr/>
          </p:nvSpPr>
          <p:spPr>
            <a:xfrm>
              <a:off x="4556160" y="3510000"/>
              <a:ext cx="896760" cy="392040"/>
            </a:xfrm>
            <a:prstGeom prst="rightArrow">
              <a:avLst>
                <a:gd name="adj1" fmla="val 50000"/>
                <a:gd name="adj2" fmla="val 5718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08720" y="347328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912960" y="3454560"/>
            <a:ext cx="3193560" cy="466560"/>
            <a:chOff x="912960" y="3454560"/>
            <a:chExt cx="3193560" cy="466560"/>
          </a:xfrm>
        </p:grpSpPr>
        <p:sp>
          <p:nvSpPr>
            <p:cNvPr id="118" name=""/>
            <p:cNvSpPr/>
            <p:nvPr/>
          </p:nvSpPr>
          <p:spPr>
            <a:xfrm flipH="1">
              <a:off x="1753560" y="3529080"/>
              <a:ext cx="2352600" cy="392040"/>
            </a:xfrm>
            <a:prstGeom prst="rightArrow">
              <a:avLst>
                <a:gd name="adj1" fmla="val 50000"/>
                <a:gd name="adj2" fmla="val 15002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2960" y="345456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121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362320" y="2971800"/>
            <a:ext cx="4217760" cy="1460520"/>
            <a:chOff x="2362320" y="2971800"/>
            <a:chExt cx="4217760" cy="1460520"/>
          </a:xfrm>
        </p:grpSpPr>
        <p:sp>
          <p:nvSpPr>
            <p:cNvPr id="124" name=""/>
            <p:cNvSpPr/>
            <p:nvPr/>
          </p:nvSpPr>
          <p:spPr>
            <a:xfrm flipV="1">
              <a:off x="2362320" y="4417920"/>
              <a:ext cx="4217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1320" y="2971800"/>
              <a:ext cx="1673280" cy="144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62400" y="3630600"/>
              <a:ext cx="15228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85640" y="69048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A box moving to the right on a level surface and sliding to a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716280" y="3941640"/>
            <a:ext cx="1436760" cy="1747440"/>
            <a:chOff x="3716280" y="3941640"/>
            <a:chExt cx="1436760" cy="1747440"/>
          </a:xfrm>
        </p:grpSpPr>
        <p:sp>
          <p:nvSpPr>
            <p:cNvPr id="129" name=""/>
            <p:cNvSpPr/>
            <p:nvPr/>
          </p:nvSpPr>
          <p:spPr>
            <a:xfrm>
              <a:off x="4127400" y="394164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16280" y="522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59040" y="1719360"/>
            <a:ext cx="1436760" cy="1755720"/>
            <a:chOff x="3659040" y="1719360"/>
            <a:chExt cx="1436760" cy="1755720"/>
          </a:xfrm>
        </p:grpSpPr>
        <p:sp>
          <p:nvSpPr>
            <p:cNvPr id="132" name=""/>
            <p:cNvSpPr/>
            <p:nvPr/>
          </p:nvSpPr>
          <p:spPr>
            <a:xfrm flipV="1">
              <a:off x="4127400" y="22050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9040" y="171936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2960" y="3454560"/>
            <a:ext cx="3193560" cy="466560"/>
            <a:chOff x="912960" y="3454560"/>
            <a:chExt cx="3193560" cy="466560"/>
          </a:xfrm>
        </p:grpSpPr>
        <p:sp>
          <p:nvSpPr>
            <p:cNvPr id="137" name=""/>
            <p:cNvSpPr/>
            <p:nvPr/>
          </p:nvSpPr>
          <p:spPr>
            <a:xfrm flipH="1">
              <a:off x="1753560" y="3529080"/>
              <a:ext cx="2352600" cy="392040"/>
            </a:xfrm>
            <a:prstGeom prst="rightArrow">
              <a:avLst>
                <a:gd name="adj1" fmla="val 50000"/>
                <a:gd name="adj2" fmla="val 15002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2960" y="345456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9144200">
            <a:off x="934200" y="16614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141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2362320" y="2496960"/>
            <a:ext cx="4448160" cy="2697480"/>
            <a:chOff x="2362320" y="2496960"/>
            <a:chExt cx="4448160" cy="2697480"/>
          </a:xfrm>
        </p:grpSpPr>
        <p:sp>
          <p:nvSpPr>
            <p:cNvPr id="144" name=""/>
            <p:cNvSpPr/>
            <p:nvPr/>
          </p:nvSpPr>
          <p:spPr>
            <a:xfrm>
              <a:off x="2362320" y="2776680"/>
              <a:ext cx="4448160" cy="2082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0"/>
                  </a:moveTo>
                  <a:lnTo>
                    <a:pt x="142" y="19980"/>
                  </a:lnTo>
                  <a:lnTo>
                    <a:pt x="19991" y="0"/>
                  </a:lnTo>
                  <a:lnTo>
                    <a:pt x="19991" y="19980"/>
                  </a:lnTo>
                  <a:lnTo>
                    <a:pt x="0" y="19980"/>
                  </a:lnTo>
                  <a:close/>
                </a:path>
              </a:pathLst>
            </a:custGeom>
            <a:solidFill>
              <a:srgbClr val="99ff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9360" y="2496960"/>
              <a:ext cx="1643040" cy="146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7507"/>
                  </a:moveTo>
                  <a:lnTo>
                    <a:pt x="6351" y="19971"/>
                  </a:lnTo>
                  <a:lnTo>
                    <a:pt x="19974" y="12665"/>
                  </a:lnTo>
                  <a:lnTo>
                    <a:pt x="13444" y="0"/>
                  </a:lnTo>
                  <a:lnTo>
                    <a:pt x="0" y="750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36760" y="4419720"/>
              <a:ext cx="4114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1080" y="3267000"/>
              <a:ext cx="745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A box at rest on an inc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071960" y="3397320"/>
            <a:ext cx="1436760" cy="2179080"/>
            <a:chOff x="4071960" y="3397320"/>
            <a:chExt cx="1436760" cy="2179080"/>
          </a:xfrm>
        </p:grpSpPr>
        <p:sp>
          <p:nvSpPr>
            <p:cNvPr id="152" name=""/>
            <p:cNvSpPr/>
            <p:nvPr/>
          </p:nvSpPr>
          <p:spPr>
            <a:xfrm>
              <a:off x="4498920" y="3397320"/>
              <a:ext cx="355680" cy="1812960"/>
            </a:xfrm>
            <a:prstGeom prst="downArrow">
              <a:avLst>
                <a:gd name="adj1" fmla="val 50000"/>
                <a:gd name="adj2" fmla="val 12742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71960" y="51166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213000" y="1157400"/>
            <a:ext cx="1525320" cy="2111040"/>
            <a:chOff x="3213000" y="1157400"/>
            <a:chExt cx="1525320" cy="2111040"/>
          </a:xfrm>
        </p:grpSpPr>
        <p:sp>
          <p:nvSpPr>
            <p:cNvPr id="155" name=""/>
            <p:cNvSpPr/>
            <p:nvPr/>
          </p:nvSpPr>
          <p:spPr>
            <a:xfrm rot="9191400">
              <a:off x="4032000" y="1565280"/>
              <a:ext cx="336600" cy="1719360"/>
            </a:xfrm>
            <a:prstGeom prst="downArrow">
              <a:avLst>
                <a:gd name="adj1" fmla="val 50000"/>
                <a:gd name="adj2" fmla="val 12770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13000" y="1157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713120" y="2465280"/>
            <a:ext cx="2105280" cy="961200"/>
            <a:chOff x="4713120" y="2465280"/>
            <a:chExt cx="2105280" cy="961200"/>
          </a:xfrm>
        </p:grpSpPr>
        <p:sp>
          <p:nvSpPr>
            <p:cNvPr id="158" name=""/>
            <p:cNvSpPr/>
            <p:nvPr/>
          </p:nvSpPr>
          <p:spPr>
            <a:xfrm flipH="1" rot="14545200">
              <a:off x="4938120" y="2730600"/>
              <a:ext cx="365040" cy="7300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1640" y="24652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i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7800" y="3213720"/>
            <a:ext cx="4219560" cy="1419840"/>
            <a:chOff x="577800" y="3213720"/>
            <a:chExt cx="4219560" cy="1419840"/>
          </a:xfrm>
        </p:grpSpPr>
        <p:sp>
          <p:nvSpPr>
            <p:cNvPr id="161" name=""/>
            <p:cNvSpPr/>
            <p:nvPr/>
          </p:nvSpPr>
          <p:spPr>
            <a:xfrm rot="3764400">
              <a:off x="4042800" y="3178080"/>
              <a:ext cx="365400" cy="730440"/>
            </a:xfrm>
            <a:prstGeom prst="downArrow">
              <a:avLst>
                <a:gd name="adj1" fmla="val 50000"/>
                <a:gd name="adj2" fmla="val 49975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7800" y="3660840"/>
              <a:ext cx="42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t acting down inc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700280" y="4108320"/>
              <a:ext cx="1082520" cy="525240"/>
              <a:chOff x="1700280" y="4108320"/>
              <a:chExt cx="1082520" cy="525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2260080" y="4335120"/>
                <a:ext cx="204480" cy="298440"/>
                <a:chOff x="2260080" y="4335120"/>
                <a:chExt cx="204480" cy="298440"/>
              </a:xfrm>
            </p:grpSpPr>
            <p:sp>
              <p:nvSpPr>
                <p:cNvPr id="165" name=""/>
                <p:cNvSpPr/>
                <p:nvPr/>
              </p:nvSpPr>
              <p:spPr>
                <a:xfrm flipH="1">
                  <a:off x="2260080" y="4335120"/>
                  <a:ext cx="110520" cy="29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2353680" y="4335120"/>
                  <a:ext cx="110880" cy="29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1700280" y="4108320"/>
                <a:ext cx="108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Wt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572720" y="3296520"/>
            <a:ext cx="4571280" cy="2538720"/>
            <a:chOff x="4572720" y="3296520"/>
            <a:chExt cx="4571280" cy="2538720"/>
          </a:xfrm>
        </p:grpSpPr>
        <p:sp>
          <p:nvSpPr>
            <p:cNvPr id="169" name=""/>
            <p:cNvSpPr/>
            <p:nvPr/>
          </p:nvSpPr>
          <p:spPr>
            <a:xfrm rot="20056200">
              <a:off x="4929120" y="3284280"/>
              <a:ext cx="336600" cy="1719000"/>
            </a:xfrm>
            <a:prstGeom prst="downArrow">
              <a:avLst>
                <a:gd name="adj1" fmla="val 50000"/>
                <a:gd name="adj2" fmla="val 127674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7160" y="4951440"/>
              <a:ext cx="38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t acting against inc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6799320" y="5340240"/>
              <a:ext cx="1082520" cy="495000"/>
              <a:chOff x="6799320" y="5340240"/>
              <a:chExt cx="1082520" cy="4950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7328880" y="5615280"/>
                <a:ext cx="317880" cy="219960"/>
                <a:chOff x="7328880" y="5615280"/>
                <a:chExt cx="317880" cy="2199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480080" y="5615280"/>
                  <a:ext cx="14400" cy="18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7328880" y="5822640"/>
                  <a:ext cx="317880" cy="12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6799320" y="5340240"/>
                <a:ext cx="108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Wt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177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362320" y="2496960"/>
            <a:ext cx="4448160" cy="2697480"/>
            <a:chOff x="2362320" y="2496960"/>
            <a:chExt cx="4448160" cy="2697480"/>
          </a:xfrm>
        </p:grpSpPr>
        <p:sp>
          <p:nvSpPr>
            <p:cNvPr id="180" name=""/>
            <p:cNvSpPr/>
            <p:nvPr/>
          </p:nvSpPr>
          <p:spPr>
            <a:xfrm>
              <a:off x="2362320" y="2776680"/>
              <a:ext cx="4448160" cy="2082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0"/>
                  </a:moveTo>
                  <a:lnTo>
                    <a:pt x="142" y="19980"/>
                  </a:lnTo>
                  <a:lnTo>
                    <a:pt x="19991" y="0"/>
                  </a:lnTo>
                  <a:lnTo>
                    <a:pt x="19991" y="19980"/>
                  </a:lnTo>
                  <a:lnTo>
                    <a:pt x="0" y="19980"/>
                  </a:lnTo>
                  <a:close/>
                </a:path>
              </a:pathLst>
            </a:custGeom>
            <a:solidFill>
              <a:srgbClr val="99ff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89360" y="2496960"/>
              <a:ext cx="1643040" cy="146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7507"/>
                  </a:moveTo>
                  <a:lnTo>
                    <a:pt x="6351" y="19971"/>
                  </a:lnTo>
                  <a:lnTo>
                    <a:pt x="19974" y="12665"/>
                  </a:lnTo>
                  <a:lnTo>
                    <a:pt x="13444" y="0"/>
                  </a:lnTo>
                  <a:lnTo>
                    <a:pt x="0" y="750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36760" y="4419720"/>
              <a:ext cx="4114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3267000"/>
              <a:ext cx="745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A box sliding down an incline at 2 m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071960" y="3397320"/>
            <a:ext cx="1436760" cy="2179080"/>
            <a:chOff x="4071960" y="3397320"/>
            <a:chExt cx="1436760" cy="2179080"/>
          </a:xfrm>
        </p:grpSpPr>
        <p:sp>
          <p:nvSpPr>
            <p:cNvPr id="188" name=""/>
            <p:cNvSpPr/>
            <p:nvPr/>
          </p:nvSpPr>
          <p:spPr>
            <a:xfrm>
              <a:off x="4498920" y="3397320"/>
              <a:ext cx="355680" cy="1812960"/>
            </a:xfrm>
            <a:prstGeom prst="downArrow">
              <a:avLst>
                <a:gd name="adj1" fmla="val 50000"/>
                <a:gd name="adj2" fmla="val 12742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1960" y="51166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13000" y="1157400"/>
            <a:ext cx="1525320" cy="2111040"/>
            <a:chOff x="3213000" y="1157400"/>
            <a:chExt cx="1525320" cy="2111040"/>
          </a:xfrm>
        </p:grpSpPr>
        <p:sp>
          <p:nvSpPr>
            <p:cNvPr id="191" name=""/>
            <p:cNvSpPr/>
            <p:nvPr/>
          </p:nvSpPr>
          <p:spPr>
            <a:xfrm rot="9191400">
              <a:off x="4032000" y="1565280"/>
              <a:ext cx="336600" cy="1719360"/>
            </a:xfrm>
            <a:prstGeom prst="downArrow">
              <a:avLst>
                <a:gd name="adj1" fmla="val 50000"/>
                <a:gd name="adj2" fmla="val 12770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13000" y="11574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13120" y="2465280"/>
            <a:ext cx="2105280" cy="961200"/>
            <a:chOff x="4713120" y="2465280"/>
            <a:chExt cx="2105280" cy="961200"/>
          </a:xfrm>
        </p:grpSpPr>
        <p:sp>
          <p:nvSpPr>
            <p:cNvPr id="194" name=""/>
            <p:cNvSpPr/>
            <p:nvPr/>
          </p:nvSpPr>
          <p:spPr>
            <a:xfrm flipH="1" rot="14545200">
              <a:off x="4938120" y="2730600"/>
              <a:ext cx="365040" cy="7300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81640" y="246528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i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95480" y="3213720"/>
            <a:ext cx="1738440" cy="876960"/>
            <a:chOff x="2895480" y="3213720"/>
            <a:chExt cx="1738440" cy="876960"/>
          </a:xfrm>
        </p:grpSpPr>
        <p:sp>
          <p:nvSpPr>
            <p:cNvPr id="197" name=""/>
            <p:cNvSpPr/>
            <p:nvPr/>
          </p:nvSpPr>
          <p:spPr>
            <a:xfrm rot="3764400">
              <a:off x="4042800" y="3178080"/>
              <a:ext cx="365400" cy="730440"/>
            </a:xfrm>
            <a:prstGeom prst="downArrow">
              <a:avLst>
                <a:gd name="adj1" fmla="val 50000"/>
                <a:gd name="adj2" fmla="val 49975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895480" y="3565440"/>
              <a:ext cx="1082880" cy="525240"/>
              <a:chOff x="2895480" y="3565440"/>
              <a:chExt cx="1082880" cy="52524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456000" y="3792240"/>
                <a:ext cx="204480" cy="298440"/>
                <a:chOff x="3456000" y="3792240"/>
                <a:chExt cx="204480" cy="29844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3456000" y="3792240"/>
                  <a:ext cx="110880" cy="29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3549240" y="3792240"/>
                  <a:ext cx="111240" cy="29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2895480" y="3565440"/>
                <a:ext cx="108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Wt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4572720" y="3296520"/>
            <a:ext cx="2039040" cy="2127600"/>
            <a:chOff x="4572720" y="3296520"/>
            <a:chExt cx="2039040" cy="2127600"/>
          </a:xfrm>
        </p:grpSpPr>
        <p:sp>
          <p:nvSpPr>
            <p:cNvPr id="204" name=""/>
            <p:cNvSpPr/>
            <p:nvPr/>
          </p:nvSpPr>
          <p:spPr>
            <a:xfrm rot="20056200">
              <a:off x="4929120" y="3284280"/>
              <a:ext cx="336600" cy="1719000"/>
            </a:xfrm>
            <a:prstGeom prst="downArrow">
              <a:avLst>
                <a:gd name="adj1" fmla="val 50000"/>
                <a:gd name="adj2" fmla="val 127674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529240" y="4929120"/>
              <a:ext cx="1082520" cy="495000"/>
              <a:chOff x="5529240" y="4929120"/>
              <a:chExt cx="1082520" cy="4950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6058800" y="5204160"/>
                <a:ext cx="317880" cy="219960"/>
                <a:chOff x="6058800" y="5204160"/>
                <a:chExt cx="317880" cy="219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210000" y="5204160"/>
                  <a:ext cx="14400" cy="18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6058800" y="5411520"/>
                  <a:ext cx="317880" cy="12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5529240" y="4929120"/>
                <a:ext cx="108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Wt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211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81240" y="2428920"/>
            <a:ext cx="784440" cy="25225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A rock free falling off the side of a cli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117960" y="2409840"/>
            <a:ext cx="2166840" cy="2522520"/>
            <a:chOff x="3117960" y="2409840"/>
            <a:chExt cx="2166840" cy="2522520"/>
          </a:xfrm>
        </p:grpSpPr>
        <p:sp>
          <p:nvSpPr>
            <p:cNvPr id="218" name=""/>
            <p:cNvSpPr/>
            <p:nvPr/>
          </p:nvSpPr>
          <p:spPr>
            <a:xfrm>
              <a:off x="3117960" y="2409840"/>
              <a:ext cx="76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84400" y="240984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4400" y="4913280"/>
              <a:ext cx="14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97200" y="269100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9080" y="3232440"/>
              <a:ext cx="0" cy="13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97200" y="4148280"/>
              <a:ext cx="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67000" y="274644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1640" y="276408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40" y="0"/>
                  </a:moveTo>
                  <a:cubicBezTo>
                    <a:pt x="31" y="35"/>
                    <a:pt x="0" y="101"/>
                    <a:pt x="29" y="142"/>
                  </a:cubicBezTo>
                  <a:cubicBezTo>
                    <a:pt x="40" y="158"/>
                    <a:pt x="60" y="165"/>
                    <a:pt x="76" y="177"/>
                  </a:cubicBezTo>
                  <a:cubicBezTo>
                    <a:pt x="99" y="173"/>
                    <a:pt x="126" y="178"/>
                    <a:pt x="146" y="165"/>
                  </a:cubicBezTo>
                  <a:cubicBezTo>
                    <a:pt x="188" y="139"/>
                    <a:pt x="169" y="58"/>
                    <a:pt x="134" y="36"/>
                  </a:cubicBezTo>
                  <a:cubicBezTo>
                    <a:pt x="106" y="18"/>
                    <a:pt x="70" y="15"/>
                    <a:pt x="4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976560" y="3138480"/>
            <a:ext cx="1436760" cy="1747080"/>
            <a:chOff x="3976560" y="3138480"/>
            <a:chExt cx="1436760" cy="1747080"/>
          </a:xfrm>
        </p:grpSpPr>
        <p:sp>
          <p:nvSpPr>
            <p:cNvPr id="227" name=""/>
            <p:cNvSpPr/>
            <p:nvPr/>
          </p:nvSpPr>
          <p:spPr>
            <a:xfrm>
              <a:off x="4164120" y="313848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76560" y="44258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753000" y="1663560"/>
            <a:ext cx="1436400" cy="1063800"/>
            <a:chOff x="3753000" y="1663560"/>
            <a:chExt cx="1436400" cy="1063800"/>
          </a:xfrm>
        </p:grpSpPr>
        <p:sp>
          <p:nvSpPr>
            <p:cNvPr id="230" name=""/>
            <p:cNvSpPr/>
            <p:nvPr/>
          </p:nvSpPr>
          <p:spPr>
            <a:xfrm>
              <a:off x="4164120" y="2055960"/>
              <a:ext cx="407880" cy="671400"/>
            </a:xfrm>
            <a:prstGeom prst="upArrow">
              <a:avLst>
                <a:gd name="adj1" fmla="val 50000"/>
                <a:gd name="adj2" fmla="val 4115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53000" y="16635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ir Dr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17520" y="5342040"/>
            <a:ext cx="7805880" cy="1288800"/>
            <a:chOff x="317520" y="5342040"/>
            <a:chExt cx="7805880" cy="1288800"/>
          </a:xfrm>
        </p:grpSpPr>
        <p:sp>
          <p:nvSpPr>
            <p:cNvPr id="233" name=""/>
            <p:cNvSpPr/>
            <p:nvPr/>
          </p:nvSpPr>
          <p:spPr>
            <a:xfrm>
              <a:off x="7283520" y="53420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7520" y="605160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648480" y="6070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9680" y="6070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640" y="69048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A hovering helicop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17840" y="2055960"/>
            <a:ext cx="41148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199040" y="3959280"/>
            <a:ext cx="1436760" cy="1747080"/>
            <a:chOff x="4199040" y="3959280"/>
            <a:chExt cx="1436760" cy="1747080"/>
          </a:xfrm>
        </p:grpSpPr>
        <p:sp>
          <p:nvSpPr>
            <p:cNvPr id="240" name=""/>
            <p:cNvSpPr/>
            <p:nvPr/>
          </p:nvSpPr>
          <p:spPr>
            <a:xfrm>
              <a:off x="4610160" y="3959280"/>
              <a:ext cx="392040" cy="1269720"/>
            </a:xfrm>
            <a:prstGeom prst="downArrow">
              <a:avLst>
                <a:gd name="adj1" fmla="val 50000"/>
                <a:gd name="adj2" fmla="val 809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9040" y="52466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516560" y="1042920"/>
            <a:ext cx="1436400" cy="1719360"/>
            <a:chOff x="4516560" y="1042920"/>
            <a:chExt cx="1436400" cy="1719360"/>
          </a:xfrm>
        </p:grpSpPr>
        <p:sp>
          <p:nvSpPr>
            <p:cNvPr id="243" name=""/>
            <p:cNvSpPr/>
            <p:nvPr/>
          </p:nvSpPr>
          <p:spPr>
            <a:xfrm flipV="1">
              <a:off x="4610160" y="1492200"/>
              <a:ext cx="392040" cy="1270080"/>
            </a:xfrm>
            <a:prstGeom prst="downArrow">
              <a:avLst>
                <a:gd name="adj1" fmla="val 50000"/>
                <a:gd name="adj2" fmla="val 809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16560" y="104292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84080" y="5435640"/>
            <a:ext cx="7805880" cy="1139760"/>
            <a:chOff x="784080" y="5435640"/>
            <a:chExt cx="7805880" cy="1139760"/>
          </a:xfrm>
        </p:grpSpPr>
        <p:sp>
          <p:nvSpPr>
            <p:cNvPr id="246" name=""/>
            <p:cNvSpPr/>
            <p:nvPr/>
          </p:nvSpPr>
          <p:spPr>
            <a:xfrm>
              <a:off x="784080" y="5435640"/>
              <a:ext cx="839880" cy="728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35800" y="5996160"/>
              <a:ext cx="20541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00:18:24Z</dcterms:created>
  <dc:creator>Richard J. Terwilliger</dc:creator>
  <dc:description/>
  <dc:language>en-US</dc:language>
  <cp:lastModifiedBy>SOCSD</cp:lastModifiedBy>
  <dcterms:modified xsi:type="dcterms:W3CDTF">2009-10-29T12:07:24Z</dcterms:modified>
  <cp:revision>22</cp:revision>
  <dc:subject/>
  <dc:title>No Slide Title</dc:title>
</cp:coreProperties>
</file>